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E18ECB-7B08-4B0D-B4B7-4B9360C93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662BC8-1C99-45FE-9889-15CB2BBED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A8EC5D-F3AE-4C3C-A458-B0E59FA48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188E0E-DE13-4FD2-A988-0199713A0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FE7F42-F540-4F87-9CF7-D704D48B8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25C961-DDA8-4FCC-ACE1-8DAD21A4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BC5C09-63B8-4F23-8B50-06DAC47C2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cher Notes:  As multimedia has grown in power and popularity, design guidelines have been establish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lance is the distribution of optical weight in layou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ymmetrical balance is achieved by arranging non-identical elements on opposite sides of imaginary center li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mmetrical balance is achieved by arranging mirrored elements equally on opposite sides of center lin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 balance is achieved by placing elements in a layout without balancing on either side of the center li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vement determines how will the viewers’ eyes move through the elements on the scre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tical center refers to the first place the viewer’s eyes encounter when they look at a page or screen. It is a point slightly above and to the right of the physical center of the scre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tical weight refers to the ability of elements to attract the viewer’s ey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ature of an element refers to its shape, color, brightness, and typ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ra-screen unity refers to how the elements on a screen relate to each oth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-screen unity refers to the design viewers encounter when moving from one screen to anoth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CD48C9-B205-4A1D-B4E0-5CB7C2B89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634965-2D5D-4C66-8C67-994E56EDB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87817E-DC62-4C71-AD2C-F40D08321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E40679-DBE1-42CC-942E-26982D4D1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70A857-0011-4731-87CF-B48BFD35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8632CF-D1E4-430A-958F-DCC6FEED9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6FCEE7-B27A-4C34-878D-B5B09758C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91AB0A-0818-452A-A4ED-643E7FF8B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40BAAB-5245-45C9-886D-A98DA81C6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ED89D6-6D35-45F8-A39F-E0316FCD5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5904D7-BB46-4403-85D7-074FCB32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BE6E64-CB50-438D-97CB-5426B26FC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4ACD18-63D6-4781-876F-FF0B6DF62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B483FA-5A03-46CE-B388-3214F4FD1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1BBCE6-76A0-4E82-996D-F3EE50588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key feature in multimedia today is its interactive 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ser can interact with the presentation and control the flow and direction of th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s used to be linear, which means the originator of the presentations controlled what happened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ar interactive multimedia will become commonplace in our dail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52AB3B-5687-4B79-84BC-4E7AE5EE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active role, the user deter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ent is deliver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is delivered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is deli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becomes more interesting and purposeful to the end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D4D340-DDF1-4C40-90EF-AA53AD7F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F79B86-52D9-4108-96C4-3E93ED86B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A9D45B-C081-49E2-AC58-382C750ED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F80382-D921-40BD-875E-3E7E9983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108458-9538-438A-8764-B576C37A7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666FA3-BD51-46F6-8BF5-A988AAF1B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B194F4-4002-4D9A-93DF-48826059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B02827-3B33-43AC-9683-2531817C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418E27-FDB4-43E8-90F5-6E2F00CA2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0C6430-7F29-42BB-82F7-45523B1A3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679357-64CF-4A5B-936C-9D46EA7DB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01D Design Multimedia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01  Explore multimedia systems, elements, and 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asic Design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701064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Design Guideline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 more than three different typefaces and siz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colors that harmonize and are appropriate with the the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ypefaces and colors consistently throughout the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nhancements such as bold, italics, and shadowing to emphasize key poi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670572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Basic Design Guidelin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underline, because it is often confused with hyperlin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white space to balance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the presentation with a blank slide containing only the slide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240" y="213336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sign Elements of Multimedia 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Design Elements of Multimedia Presentations</a:t>
            </a:r>
            <a:r>
              <a:rPr b="1" lang="en-US" sz="3400" spc="-1" strike="noStrike">
                <a:solidFill>
                  <a:srgbClr val="ffcf01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62120" y="2362320"/>
            <a:ext cx="3504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54320">
              <a:lnSpc>
                <a:spcPct val="80000"/>
              </a:lnSpc>
              <a:spcBef>
                <a:spcPts val="1500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al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54320">
              <a:lnSpc>
                <a:spcPct val="80000"/>
              </a:lnSpc>
              <a:spcBef>
                <a:spcPts val="1500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54320">
              <a:lnSpc>
                <a:spcPct val="80000"/>
              </a:lnSpc>
              <a:spcBef>
                <a:spcPts val="1500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343400" y="2286000"/>
            <a:ext cx="4191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cal ce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cal w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65120">
              <a:lnSpc>
                <a:spcPct val="80000"/>
              </a:lnSpc>
              <a:spcBef>
                <a:spcPts val="1500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-screen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65120">
              <a:lnSpc>
                <a:spcPct val="80000"/>
              </a:lnSpc>
              <a:spcBef>
                <a:spcPts val="1500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-screen 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reate Multimedia 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9840" y="8377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Create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2286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914400"/>
            <a:ext cx="749628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04920" y="480060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le of thumb for multimedia developmen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80% planning + 20% production = 100%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838080" y="228600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lanning ensures a successful multimedia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MCj04369920000[1]"/>
          <p:cNvPicPr/>
          <p:nvPr/>
        </p:nvPicPr>
        <p:blipFill>
          <a:blip r:embed="rId1"/>
          <a:stretch/>
        </p:blipFill>
        <p:spPr>
          <a:xfrm>
            <a:off x="4419720" y="2286000"/>
            <a:ext cx="35049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5722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57200" y="2057400"/>
            <a:ext cx="830592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the theme (concept or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90800" indent="-1533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is the purpose of the present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90800" indent="-1533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 – How to Use a Digital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goals, objectives, and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90800" indent="-1533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do you want to accompl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990800" indent="-15336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 – Taking low-light pictures and downloading images to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57200" y="1905120"/>
            <a:ext cx="83059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dentify the target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 will use and see the present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audiences can be categorized by demographics, lifestyles, or attitu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information known about the audience, the more likely the presentation will meet their needs successfully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 – Have the people in the target audience ever owned a digital came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209320"/>
            <a:ext cx="8116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ultimedia Authoring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609480" y="2390760"/>
            <a:ext cx="777240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treatment to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8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396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how the multimedia presentation will l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39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396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d largely by the concepts, goals, objectives, and target audi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8432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8432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914040"/>
            <a:ext cx="7724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411480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reatment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Tone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the presentation be serious, humorous, light, heavy, formal, or informa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2895120"/>
            <a:ext cx="40845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taphor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 comparison be used to provide interest or to aid in understand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12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mparing the complexity of building a house to building a web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33520" y="426708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pproach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How much direction will be given to the end user?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A rule of thumb: children’s presentations need less options while adults’ presentations need more navigation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724280" y="4952880"/>
            <a:ext cx="3505320" cy="16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mphasis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How much weight will be given to each of the various elements in the presen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6480" y="990720"/>
            <a:ext cx="787716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ultimedi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80880" y="22096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the specific elements to be used, where to place equipment and the playback system(s)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creative_process1"/>
          <p:cNvPicPr/>
          <p:nvPr/>
        </p:nvPicPr>
        <p:blipFill>
          <a:blip r:embed="rId1"/>
          <a:stretch/>
        </p:blipFill>
        <p:spPr>
          <a:xfrm rot="21259200">
            <a:off x="4267080" y="3724200"/>
            <a:ext cx="467064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6480" y="838080"/>
            <a:ext cx="74962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lan the Multimedia Presen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04920" y="1981080"/>
            <a:ext cx="8534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yboard projects including all navigation l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09480" y="2819520"/>
            <a:ext cx="182880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A sample storyboard with its navigational li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ont colors, background color, and other design ideas can also be noted at this s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Storyboard"/>
          <p:cNvPicPr/>
          <p:nvPr/>
        </p:nvPicPr>
        <p:blipFill>
          <a:blip r:embed="rId1"/>
          <a:stretch/>
        </p:blipFill>
        <p:spPr>
          <a:xfrm>
            <a:off x="2743200" y="2895480"/>
            <a:ext cx="5942160" cy="373392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90160" y="228240"/>
            <a:ext cx="79534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epare the Multimedia Presentat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5800" y="1905120"/>
            <a:ext cx="8229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240" indent="-51876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materials and computerize the multimedia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51876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reference page and use proper formatting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784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PA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784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LA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5560" indent="-44784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ther style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51876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finished project for any copyright infring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51876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 and test the multimedia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518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Practice Presenting the Multimedia Presentation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76520" y="2895480"/>
          <a:ext cx="6116400" cy="2021040"/>
        </p:xfrm>
        <a:graphic>
          <a:graphicData uri="http://schemas.openxmlformats.org/drawingml/2006/table">
            <a:tbl>
              <a:tblPr/>
              <a:tblGrid>
                <a:gridCol w="2038320"/>
                <a:gridCol w="2273040"/>
                <a:gridCol w="1805040"/>
              </a:tblGrid>
              <a:tr h="20210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yourself practicing the 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 in front of an audience or fri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 with the equipment you will use during the 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Arial"/>
              </a:rPr>
              <a:t>Present the Multimedia Presentation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09480" y="2590920"/>
          <a:ext cx="7772400" cy="3584520"/>
        </p:xfrm>
        <a:graphic>
          <a:graphicData uri="http://schemas.openxmlformats.org/drawingml/2006/table">
            <a:tbl>
              <a:tblPr/>
              <a:tblGrid>
                <a:gridCol w="1943280"/>
                <a:gridCol w="2166840"/>
                <a:gridCol w="1720800"/>
                <a:gridCol w="1941480"/>
              </a:tblGrid>
              <a:tr h="17920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 the Cont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proper English/gram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oid filler wo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ak cle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ye cont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aud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appropriate speed of spe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lude an opening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y within allotte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Interactive Multimedia Presentations</a:t>
            </a:r>
            <a:r>
              <a:rPr b="1" lang="en-US" sz="4400" spc="-1" strike="noStrike">
                <a:solidFill>
                  <a:srgbClr val="ffcf0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68580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active Multimedia Presentatio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62120" y="2362320"/>
            <a:ext cx="3733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igi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ter controlled the order of the presentation while the audience wat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572000" y="2362320"/>
            <a:ext cx="3886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interact with presentations and control the order the information is vi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inear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active Multimedia Present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57200" y="1981080"/>
            <a:ext cx="8229600" cy="31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rs use navigational or action buttons on screen or websites to deter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tent is deli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is deli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>
              <a:lnSpc>
                <a:spcPct val="100000"/>
              </a:lnSpc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t is deli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navigational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1600200" y="4800600"/>
            <a:ext cx="5257800" cy="1600200"/>
            <a:chOff x="1600200" y="4800600"/>
            <a:chExt cx="5257800" cy="1600200"/>
          </a:xfrm>
        </p:grpSpPr>
        <p:grpSp>
          <p:nvGrpSpPr>
            <p:cNvPr id="186" name="Group 15"/>
            <p:cNvGrpSpPr/>
            <p:nvPr/>
          </p:nvGrpSpPr>
          <p:grpSpPr>
            <a:xfrm>
              <a:off x="1600200" y="5105520"/>
              <a:ext cx="2361960" cy="1295280"/>
              <a:chOff x="1600200" y="5105520"/>
              <a:chExt cx="2361960" cy="1295280"/>
            </a:xfrm>
          </p:grpSpPr>
          <p:sp>
            <p:nvSpPr>
              <p:cNvPr id="187" name="AutoShape 5">
                <a:hlinkClick r:id="" action="ppaction://hlinkshowjump?jump=nextslide"/>
              </p:cNvPr>
              <p:cNvSpPr/>
              <p:nvPr/>
            </p:nvSpPr>
            <p:spPr>
              <a:xfrm>
                <a:off x="2514600" y="6019920"/>
                <a:ext cx="380880" cy="380880"/>
              </a:xfrm>
              <a:custGeom>
                <a:avLst/>
                <a:gdLst>
                  <a:gd name="textAreaLeft" fmla="*/ 24480 w 380880"/>
                  <a:gd name="textAreaRight" fmla="*/ 356400 w 380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fill="lightenLess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1600">
                    <a:moveTo>
                      <a:pt x="21600" y="0"/>
                    </a:moveTo>
                    <a:lnTo>
                      <a:pt x="21600" y="21600"/>
                    </a:lnTo>
                    <a:lnTo>
                      <a:pt x="20200" y="20200"/>
                    </a:lnTo>
                    <a:lnTo>
                      <a:pt x="20200" y="1400"/>
                    </a:lnTo>
                    <a:close/>
                  </a:path>
                  <a:path fill="darkenLess" w="21600" h="21600">
                    <a:moveTo>
                      <a:pt x="21600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0200" y="20200"/>
                    </a:lnTo>
                    <a:close/>
                  </a:path>
                  <a:path fill="lighten" w="21600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1600" h="21600">
                    <a:moveTo>
                      <a:pt x="3794" y="3794"/>
                    </a:moveTo>
                    <a:lnTo>
                      <a:pt x="17806" y="10800"/>
                    </a:lnTo>
                    <a:lnTo>
                      <a:pt x="3794" y="17806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">
                <a:hlinkClick r:id="" action="ppaction://hlinkshowjump?jump=previousslide"/>
              </p:cNvPr>
              <p:cNvSpPr/>
              <p:nvPr/>
            </p:nvSpPr>
            <p:spPr>
              <a:xfrm>
                <a:off x="2057400" y="6019920"/>
                <a:ext cx="380880" cy="380880"/>
              </a:xfrm>
              <a:custGeom>
                <a:avLst/>
                <a:gdLst>
                  <a:gd name="textAreaLeft" fmla="*/ 24480 w 380880"/>
                  <a:gd name="textAreaRight" fmla="*/ 356400 w 380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fill="lightenLess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1600">
                    <a:moveTo>
                      <a:pt x="21600" y="0"/>
                    </a:moveTo>
                    <a:lnTo>
                      <a:pt x="21600" y="21600"/>
                    </a:lnTo>
                    <a:lnTo>
                      <a:pt x="20200" y="20200"/>
                    </a:lnTo>
                    <a:lnTo>
                      <a:pt x="20200" y="1400"/>
                    </a:lnTo>
                    <a:close/>
                  </a:path>
                  <a:path fill="darkenLess" w="21600" h="21600">
                    <a:moveTo>
                      <a:pt x="21600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0200" y="20200"/>
                    </a:lnTo>
                    <a:close/>
                  </a:path>
                  <a:path fill="lighten" w="21600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1600" h="21600">
                    <a:moveTo>
                      <a:pt x="3794" y="10800"/>
                    </a:moveTo>
                    <a:lnTo>
                      <a:pt x="17806" y="3794"/>
                    </a:lnTo>
                    <a:lnTo>
                      <a:pt x="17806" y="17806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7">
                <a:hlinkClick r:id="" action="ppaction://hlinkshowjump?jump=firstslide"/>
              </p:cNvPr>
              <p:cNvSpPr/>
              <p:nvPr/>
            </p:nvSpPr>
            <p:spPr>
              <a:xfrm>
                <a:off x="1600200" y="6019920"/>
                <a:ext cx="380880" cy="380880"/>
              </a:xfrm>
              <a:custGeom>
                <a:avLst/>
                <a:gdLst>
                  <a:gd name="textAreaLeft" fmla="*/ 24480 w 380880"/>
                  <a:gd name="textAreaRight" fmla="*/ 356400 w 380880"/>
                  <a:gd name="textAreaTop" fmla="*/ 24480 h 380880"/>
                  <a:gd name="textAreaBottom" fmla="*/ 35640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fill="lightenLess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1600">
                    <a:moveTo>
                      <a:pt x="21600" y="0"/>
                    </a:moveTo>
                    <a:lnTo>
                      <a:pt x="21600" y="21600"/>
                    </a:lnTo>
                    <a:lnTo>
                      <a:pt x="20200" y="20200"/>
                    </a:lnTo>
                    <a:lnTo>
                      <a:pt x="20200" y="1400"/>
                    </a:lnTo>
                    <a:close/>
                  </a:path>
                  <a:path fill="darkenLess" w="21600" h="21600">
                    <a:moveTo>
                      <a:pt x="21600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0200" y="20200"/>
                    </a:lnTo>
                    <a:close/>
                  </a:path>
                  <a:path fill="lighten" w="21600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1600" h="21600">
                    <a:moveTo>
                      <a:pt x="10800" y="3837"/>
                    </a:moveTo>
                    <a:lnTo>
                      <a:pt x="13376" y="6448"/>
                    </a:lnTo>
                    <a:lnTo>
                      <a:pt x="13376" y="4707"/>
                    </a:lnTo>
                    <a:lnTo>
                      <a:pt x="15152" y="4707"/>
                    </a:lnTo>
                    <a:lnTo>
                      <a:pt x="15152" y="8224"/>
                    </a:lnTo>
                    <a:lnTo>
                      <a:pt x="17763" y="10800"/>
                    </a:lnTo>
                    <a:lnTo>
                      <a:pt x="16109" y="10800"/>
                    </a:lnTo>
                    <a:lnTo>
                      <a:pt x="16109" y="17989"/>
                    </a:lnTo>
                    <a:lnTo>
                      <a:pt x="5491" y="17989"/>
                    </a:lnTo>
                    <a:lnTo>
                      <a:pt x="5491" y="10800"/>
                    </a:lnTo>
                    <a:lnTo>
                      <a:pt x="3837" y="10800"/>
                    </a:lnTo>
                    <a:close/>
                  </a:path>
                  <a:path fill="darkenLess" w="21600" h="21600">
                    <a:moveTo>
                      <a:pt x="13376" y="6448"/>
                    </a:moveTo>
                    <a:lnTo>
                      <a:pt x="13376" y="4707"/>
                    </a:lnTo>
                    <a:lnTo>
                      <a:pt x="15152" y="4707"/>
                    </a:lnTo>
                    <a:lnTo>
                      <a:pt x="15152" y="8224"/>
                    </a:lnTo>
                    <a:close/>
                  </a:path>
                  <a:path fill="darkenLess" w="21600" h="21600">
                    <a:moveTo>
                      <a:pt x="9877" y="14299"/>
                    </a:moveTo>
                    <a:lnTo>
                      <a:pt x="11723" y="14299"/>
                    </a:lnTo>
                    <a:lnTo>
                      <a:pt x="11723" y="17989"/>
                    </a:lnTo>
                    <a:lnTo>
                      <a:pt x="16109" y="17989"/>
                    </a:lnTo>
                    <a:lnTo>
                      <a:pt x="16109" y="10800"/>
                    </a:lnTo>
                    <a:lnTo>
                      <a:pt x="5491" y="10800"/>
                    </a:lnTo>
                    <a:lnTo>
                      <a:pt x="5491" y="17989"/>
                    </a:lnTo>
                    <a:lnTo>
                      <a:pt x="9877" y="17989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8"/>
              <p:cNvSpPr/>
              <p:nvPr/>
            </p:nvSpPr>
            <p:spPr>
              <a:xfrm flipV="1">
                <a:off x="1752480" y="5105520"/>
                <a:ext cx="1371600" cy="83808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9"/>
              <p:cNvSpPr/>
              <p:nvPr/>
            </p:nvSpPr>
            <p:spPr>
              <a:xfrm flipV="1">
                <a:off x="2361960" y="5562720"/>
                <a:ext cx="1143000" cy="38088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0"/>
              <p:cNvSpPr/>
              <p:nvPr/>
            </p:nvSpPr>
            <p:spPr>
              <a:xfrm flipV="1">
                <a:off x="2971800" y="6172200"/>
                <a:ext cx="990360" cy="7632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Text Box 11"/>
            <p:cNvSpPr/>
            <p:nvPr/>
          </p:nvSpPr>
          <p:spPr>
            <a:xfrm>
              <a:off x="3352680" y="4800600"/>
              <a:ext cx="35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 to beginning slide (hom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3733560" y="541008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 to previous sl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3"/>
            <p:cNvSpPr/>
            <p:nvPr/>
          </p:nvSpPr>
          <p:spPr>
            <a:xfrm>
              <a:off x="4114800" y="601992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 to next sl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ultimedia Authoring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hat allows the designer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multimedia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interac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creen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content with paint, text, and anim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 text, sound, video, animation, and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1760">
              <a:spcBef>
                <a:spcPts val="601"/>
              </a:spcBef>
              <a:buClr>
                <a:srgbClr val="ffcf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hyper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83772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active Multimedia Titl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57200" y="14479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457200" y="2286000"/>
            <a:ext cx="4572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s can interact with the presentation v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7680"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use Cl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7680"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use Rollo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7680"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ice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7680"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7680"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uch Scr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MPj04004200000[1]"/>
          <p:cNvPicPr/>
          <p:nvPr/>
        </p:nvPicPr>
        <p:blipFill>
          <a:blip r:embed="rId1"/>
          <a:stretch/>
        </p:blipFill>
        <p:spPr>
          <a:xfrm>
            <a:off x="5427720" y="2433600"/>
            <a:ext cx="3487680" cy="331308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 of an Interactive Multimedia Present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01" name="Group 9"/>
          <p:cNvGrpSpPr/>
          <p:nvPr/>
        </p:nvGrpSpPr>
        <p:grpSpPr>
          <a:xfrm>
            <a:off x="152280" y="1981080"/>
            <a:ext cx="8664840" cy="4267440"/>
            <a:chOff x="152280" y="1981080"/>
            <a:chExt cx="8664840" cy="4267440"/>
          </a:xfrm>
        </p:grpSpPr>
        <p:sp>
          <p:nvSpPr>
            <p:cNvPr id="202" name="Text Box 4"/>
            <p:cNvSpPr/>
            <p:nvPr/>
          </p:nvSpPr>
          <p:spPr>
            <a:xfrm>
              <a:off x="152280" y="2209680"/>
              <a:ext cx="2819520" cy="36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user can continue on with this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lick on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ponent A lin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lick on the Component B li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6" descr="Ex1"/>
            <p:cNvPicPr/>
            <p:nvPr/>
          </p:nvPicPr>
          <p:blipFill>
            <a:blip r:embed="rId1"/>
            <a:stretch/>
          </p:blipFill>
          <p:spPr>
            <a:xfrm>
              <a:off x="3124080" y="1981080"/>
              <a:ext cx="5693040" cy="4267440"/>
            </a:xfrm>
            <a:prstGeom prst="rect">
              <a:avLst/>
            </a:prstGeom>
            <a:ln w="3240">
              <a:solidFill>
                <a:srgbClr val="00e4a8"/>
              </a:solidFill>
              <a:miter/>
            </a:ln>
          </p:spPr>
        </p:pic>
        <p:sp>
          <p:nvSpPr>
            <p:cNvPr id="204" name="Line 7"/>
            <p:cNvSpPr/>
            <p:nvPr/>
          </p:nvSpPr>
          <p:spPr>
            <a:xfrm flipV="1">
              <a:off x="2514600" y="3809880"/>
              <a:ext cx="990720" cy="144792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 flipV="1">
              <a:off x="2590920" y="3504960"/>
              <a:ext cx="838080" cy="60948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 of an Interactive Multimedia Present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7" name="Picture 3" descr="Ex2"/>
          <p:cNvPicPr/>
          <p:nvPr/>
        </p:nvPicPr>
        <p:blipFill>
          <a:blip r:embed="rId1"/>
          <a:stretch/>
        </p:blipFill>
        <p:spPr>
          <a:xfrm>
            <a:off x="4343400" y="1600200"/>
            <a:ext cx="2971800" cy="220968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sp>
        <p:nvSpPr>
          <p:cNvPr id="208" name="Text Box 4"/>
          <p:cNvSpPr/>
          <p:nvPr/>
        </p:nvSpPr>
        <p:spPr>
          <a:xfrm>
            <a:off x="457200" y="2133720"/>
            <a:ext cx="28954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will see this slide if they continue the presentation without selecting a link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will see this slide if they click on the Component A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will see this slide if they click on the Component B 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Ex3"/>
          <p:cNvPicPr/>
          <p:nvPr/>
        </p:nvPicPr>
        <p:blipFill>
          <a:blip r:embed="rId2"/>
          <a:stretch/>
        </p:blipFill>
        <p:spPr>
          <a:xfrm>
            <a:off x="5486400" y="2286000"/>
            <a:ext cx="3200400" cy="240336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pic>
        <p:nvPicPr>
          <p:cNvPr id="210" name="Picture 6" descr="Ex4"/>
          <p:cNvPicPr/>
          <p:nvPr/>
        </p:nvPicPr>
        <p:blipFill>
          <a:blip r:embed="rId3"/>
          <a:stretch/>
        </p:blipFill>
        <p:spPr>
          <a:xfrm>
            <a:off x="3809880" y="4191120"/>
            <a:ext cx="3200400" cy="239220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sp>
        <p:nvSpPr>
          <p:cNvPr id="211" name="Line 7"/>
          <p:cNvSpPr/>
          <p:nvPr/>
        </p:nvSpPr>
        <p:spPr>
          <a:xfrm flipV="1">
            <a:off x="4572000" y="5334120"/>
            <a:ext cx="2743200" cy="457200"/>
          </a:xfrm>
          <a:prstGeom prst="line">
            <a:avLst/>
          </a:prstGeom>
          <a:ln w="381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6324480" y="3809880"/>
            <a:ext cx="1067040" cy="1067040"/>
          </a:xfrm>
          <a:prstGeom prst="line">
            <a:avLst/>
          </a:prstGeom>
          <a:ln w="381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7315200" y="4648320"/>
            <a:ext cx="167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mages are used as links to a video cl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 flipV="1">
            <a:off x="3352680" y="18288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 flipV="1">
            <a:off x="2971800" y="3200400"/>
            <a:ext cx="2666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>
            <a:off x="31240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380880" y="2133720"/>
            <a:ext cx="335304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sers continue  with the presentation, additional links may be encountered which offer more choices and 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example provides links to two Word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click on the Word icon to view Word docu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Ex5"/>
          <p:cNvPicPr/>
          <p:nvPr/>
        </p:nvPicPr>
        <p:blipFill>
          <a:blip r:embed="rId1"/>
          <a:stretch/>
        </p:blipFill>
        <p:spPr>
          <a:xfrm>
            <a:off x="4876920" y="1905120"/>
            <a:ext cx="4016160" cy="213336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pic>
        <p:nvPicPr>
          <p:cNvPr id="219" name="Picture 6" descr="Ex6"/>
          <p:cNvPicPr/>
          <p:nvPr/>
        </p:nvPicPr>
        <p:blipFill>
          <a:blip r:embed="rId2"/>
          <a:stretch/>
        </p:blipFill>
        <p:spPr>
          <a:xfrm>
            <a:off x="3962520" y="4114800"/>
            <a:ext cx="3124080" cy="192240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pic>
        <p:nvPicPr>
          <p:cNvPr id="220" name="Picture 7" descr="Ex7"/>
          <p:cNvPicPr/>
          <p:nvPr/>
        </p:nvPicPr>
        <p:blipFill>
          <a:blip r:embed="rId3"/>
          <a:stretch/>
        </p:blipFill>
        <p:spPr>
          <a:xfrm>
            <a:off x="5867280" y="4572000"/>
            <a:ext cx="3048120" cy="1928880"/>
          </a:xfrm>
          <a:prstGeom prst="rect">
            <a:avLst/>
          </a:prstGeom>
          <a:ln w="3240">
            <a:solidFill>
              <a:srgbClr val="00e4a8"/>
            </a:solidFill>
            <a:miter/>
          </a:ln>
        </p:spPr>
      </p:pic>
      <p:sp>
        <p:nvSpPr>
          <p:cNvPr id="221" name="Line 8"/>
          <p:cNvSpPr/>
          <p:nvPr/>
        </p:nvSpPr>
        <p:spPr>
          <a:xfrm flipH="1">
            <a:off x="5333760" y="3352680"/>
            <a:ext cx="15228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>
            <a:off x="7619760" y="3352680"/>
            <a:ext cx="2286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 of an Interactive Multimedia Present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s of Authoring Softwa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Movie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b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be Author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Office Im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Lotus Sym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2096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sic Parts of Multimedia Presentation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4120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Basic Parts of Presentations:</a:t>
            </a:r>
            <a:br>
              <a:rPr sz="3400"/>
            </a:b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Hyperlinks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57200" y="1752480"/>
            <a:ext cx="83059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erlink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“hot spots” or “jumps” that locate an external file, website or place in the current presentation. They are represented by a graphic or colored and underlined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Ex11"/>
          <p:cNvPicPr/>
          <p:nvPr/>
        </p:nvPicPr>
        <p:blipFill>
          <a:blip r:embed="rId1"/>
          <a:stretch/>
        </p:blipFill>
        <p:spPr>
          <a:xfrm>
            <a:off x="4952880" y="3794040"/>
            <a:ext cx="2934000" cy="2330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7162920" y="5029200"/>
            <a:ext cx="16761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yperlink to video c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H="1" flipV="1">
            <a:off x="6705360" y="5486400"/>
            <a:ext cx="5331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Ex9"/>
          <p:cNvPicPr/>
          <p:nvPr/>
        </p:nvPicPr>
        <p:blipFill>
          <a:blip r:embed="rId2"/>
          <a:stretch/>
        </p:blipFill>
        <p:spPr>
          <a:xfrm>
            <a:off x="533520" y="3878280"/>
            <a:ext cx="3200400" cy="23018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895480" y="6127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ome of the many hyper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H="1" flipV="1">
            <a:off x="914040" y="5181480"/>
            <a:ext cx="19810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H="1" flipV="1">
            <a:off x="1981080" y="4114800"/>
            <a:ext cx="99072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3124080" y="4800240"/>
            <a:ext cx="22860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"/>
          <p:cNvSpPr/>
          <p:nvPr/>
        </p:nvSpPr>
        <p:spPr>
          <a:xfrm flipH="1" flipV="1">
            <a:off x="1447920" y="5866920"/>
            <a:ext cx="13716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sic Parts of Presentations: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nus and Navigation Buttons</a:t>
            </a:r>
            <a:endParaRPr b="0" lang="en-US" sz="3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u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st of options that use hyperlinks to move to other parts of the presentation. Can be text or im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vigation Button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ons that are hyperlinked to other parts of the presentation and allow the user to navigate through the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3687840" y="5221440"/>
            <a:ext cx="5303520" cy="1307880"/>
            <a:chOff x="3687840" y="5221440"/>
            <a:chExt cx="5303520" cy="1307880"/>
          </a:xfrm>
        </p:grpSpPr>
        <p:grpSp>
          <p:nvGrpSpPr>
            <p:cNvPr id="122" name="Group 15"/>
            <p:cNvGrpSpPr/>
            <p:nvPr/>
          </p:nvGrpSpPr>
          <p:grpSpPr>
            <a:xfrm>
              <a:off x="3687840" y="5456160"/>
              <a:ext cx="2382120" cy="997920"/>
              <a:chOff x="3687840" y="5456160"/>
              <a:chExt cx="2382120" cy="997920"/>
            </a:xfrm>
          </p:grpSpPr>
          <p:sp>
            <p:nvSpPr>
              <p:cNvPr id="123" name="AutoShape 5">
                <a:hlinkClick r:id="" action="ppaction://hlinkshowjump?jump=nextslide"/>
              </p:cNvPr>
              <p:cNvSpPr/>
              <p:nvPr/>
            </p:nvSpPr>
            <p:spPr>
              <a:xfrm>
                <a:off x="4610160" y="6160680"/>
                <a:ext cx="384120" cy="293400"/>
              </a:xfrm>
              <a:custGeom>
                <a:avLst/>
                <a:gdLst>
                  <a:gd name="textAreaLeft" fmla="*/ 18720 w 384120"/>
                  <a:gd name="textAreaRight" fmla="*/ 365400 w 384120"/>
                  <a:gd name="textAreaTop" fmla="*/ 18720 h 293400"/>
                  <a:gd name="textAreaBottom" fmla="*/ 274680 h 293400"/>
                </a:gdLst>
                <a:ahLst/>
                <a:rect l="textAreaLeft" t="textAreaTop" r="textAreaRight" b="textAreaBottom"/>
                <a:pathLst>
                  <a:path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8271" y="21600"/>
                    </a:lnTo>
                    <a:lnTo>
                      <a:pt x="0" y="21600"/>
                    </a:lnTo>
                    <a:close/>
                  </a:path>
                  <a:path fill="lightenLess"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6871" y="1400"/>
                    </a:lnTo>
                    <a:lnTo>
                      <a:pt x="1400" y="1400"/>
                    </a:lnTo>
                    <a:close/>
                  </a:path>
                  <a:path fill="darken" w="28271" h="21600">
                    <a:moveTo>
                      <a:pt x="28271" y="0"/>
                    </a:moveTo>
                    <a:lnTo>
                      <a:pt x="28271" y="21600"/>
                    </a:lnTo>
                    <a:lnTo>
                      <a:pt x="26871" y="20200"/>
                    </a:lnTo>
                    <a:lnTo>
                      <a:pt x="26871" y="1400"/>
                    </a:lnTo>
                    <a:close/>
                  </a:path>
                  <a:path fill="darkenLess" w="28271" h="21600">
                    <a:moveTo>
                      <a:pt x="2827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6871" y="20200"/>
                    </a:lnTo>
                    <a:close/>
                  </a:path>
                  <a:path fill="lighten" w="2827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8271" h="21600">
                    <a:moveTo>
                      <a:pt x="7129" y="3794"/>
                    </a:moveTo>
                    <a:lnTo>
                      <a:pt x="21142" y="10800"/>
                    </a:lnTo>
                    <a:lnTo>
                      <a:pt x="7129" y="17806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6">
                <a:hlinkClick r:id="" action="ppaction://hlinkshowjump?jump=previousslide"/>
              </p:cNvPr>
              <p:cNvSpPr/>
              <p:nvPr/>
            </p:nvSpPr>
            <p:spPr>
              <a:xfrm>
                <a:off x="4149000" y="6160680"/>
                <a:ext cx="384120" cy="293400"/>
              </a:xfrm>
              <a:custGeom>
                <a:avLst/>
                <a:gdLst>
                  <a:gd name="textAreaLeft" fmla="*/ 18720 w 384120"/>
                  <a:gd name="textAreaRight" fmla="*/ 365400 w 384120"/>
                  <a:gd name="textAreaTop" fmla="*/ 18720 h 293400"/>
                  <a:gd name="textAreaBottom" fmla="*/ 274680 h 293400"/>
                </a:gdLst>
                <a:ahLst/>
                <a:rect l="textAreaLeft" t="textAreaTop" r="textAreaRight" b="textAreaBottom"/>
                <a:pathLst>
                  <a:path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8271" y="21600"/>
                    </a:lnTo>
                    <a:lnTo>
                      <a:pt x="0" y="21600"/>
                    </a:lnTo>
                    <a:close/>
                  </a:path>
                  <a:path fill="lightenLess"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6871" y="1400"/>
                    </a:lnTo>
                    <a:lnTo>
                      <a:pt x="1400" y="1400"/>
                    </a:lnTo>
                    <a:close/>
                  </a:path>
                  <a:path fill="darken" w="28271" h="21600">
                    <a:moveTo>
                      <a:pt x="28271" y="0"/>
                    </a:moveTo>
                    <a:lnTo>
                      <a:pt x="28271" y="21600"/>
                    </a:lnTo>
                    <a:lnTo>
                      <a:pt x="26871" y="20200"/>
                    </a:lnTo>
                    <a:lnTo>
                      <a:pt x="26871" y="1400"/>
                    </a:lnTo>
                    <a:close/>
                  </a:path>
                  <a:path fill="darkenLess" w="28271" h="21600">
                    <a:moveTo>
                      <a:pt x="2827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6871" y="20200"/>
                    </a:lnTo>
                    <a:close/>
                  </a:path>
                  <a:path fill="lighten" w="2827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8271" h="21600">
                    <a:moveTo>
                      <a:pt x="7129" y="10800"/>
                    </a:moveTo>
                    <a:lnTo>
                      <a:pt x="21142" y="3794"/>
                    </a:lnTo>
                    <a:lnTo>
                      <a:pt x="21142" y="17806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7">
                <a:hlinkClick r:id="" action="ppaction://hlinkshowjump?jump=firstslide"/>
              </p:cNvPr>
              <p:cNvSpPr/>
              <p:nvPr/>
            </p:nvSpPr>
            <p:spPr>
              <a:xfrm>
                <a:off x="3687840" y="6160680"/>
                <a:ext cx="384120" cy="293400"/>
              </a:xfrm>
              <a:custGeom>
                <a:avLst/>
                <a:gdLst>
                  <a:gd name="textAreaLeft" fmla="*/ 18720 w 384120"/>
                  <a:gd name="textAreaRight" fmla="*/ 365400 w 384120"/>
                  <a:gd name="textAreaTop" fmla="*/ 18720 h 293400"/>
                  <a:gd name="textAreaBottom" fmla="*/ 274680 h 293400"/>
                </a:gdLst>
                <a:ahLst/>
                <a:rect l="textAreaLeft" t="textAreaTop" r="textAreaRight" b="textAreaBottom"/>
                <a:pathLst>
                  <a:path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8271" y="21600"/>
                    </a:lnTo>
                    <a:lnTo>
                      <a:pt x="0" y="21600"/>
                    </a:lnTo>
                    <a:close/>
                  </a:path>
                  <a:path fill="lightenLess" w="28271" h="21600">
                    <a:moveTo>
                      <a:pt x="0" y="0"/>
                    </a:moveTo>
                    <a:lnTo>
                      <a:pt x="28271" y="0"/>
                    </a:lnTo>
                    <a:lnTo>
                      <a:pt x="26871" y="1400"/>
                    </a:lnTo>
                    <a:lnTo>
                      <a:pt x="1400" y="1400"/>
                    </a:lnTo>
                    <a:close/>
                  </a:path>
                  <a:path fill="darken" w="28271" h="21600">
                    <a:moveTo>
                      <a:pt x="28271" y="0"/>
                    </a:moveTo>
                    <a:lnTo>
                      <a:pt x="28271" y="21600"/>
                    </a:lnTo>
                    <a:lnTo>
                      <a:pt x="26871" y="20200"/>
                    </a:lnTo>
                    <a:lnTo>
                      <a:pt x="26871" y="1400"/>
                    </a:lnTo>
                    <a:close/>
                  </a:path>
                  <a:path fill="darkenLess" w="28271" h="21600">
                    <a:moveTo>
                      <a:pt x="28271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26871" y="20200"/>
                    </a:lnTo>
                    <a:close/>
                  </a:path>
                  <a:path fill="lighten" w="28271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28271" h="21600">
                    <a:moveTo>
                      <a:pt x="14135" y="3837"/>
                    </a:moveTo>
                    <a:lnTo>
                      <a:pt x="16712" y="6448"/>
                    </a:lnTo>
                    <a:lnTo>
                      <a:pt x="16712" y="4707"/>
                    </a:lnTo>
                    <a:lnTo>
                      <a:pt x="18487" y="4707"/>
                    </a:lnTo>
                    <a:lnTo>
                      <a:pt x="18487" y="8224"/>
                    </a:lnTo>
                    <a:lnTo>
                      <a:pt x="21098" y="10800"/>
                    </a:lnTo>
                    <a:lnTo>
                      <a:pt x="19445" y="10800"/>
                    </a:lnTo>
                    <a:lnTo>
                      <a:pt x="19445" y="17989"/>
                    </a:lnTo>
                    <a:lnTo>
                      <a:pt x="8826" y="17989"/>
                    </a:lnTo>
                    <a:lnTo>
                      <a:pt x="8826" y="10800"/>
                    </a:lnTo>
                    <a:lnTo>
                      <a:pt x="7172" y="10800"/>
                    </a:lnTo>
                    <a:close/>
                  </a:path>
                  <a:path fill="darkenLess" w="28271" h="21600">
                    <a:moveTo>
                      <a:pt x="16712" y="6448"/>
                    </a:moveTo>
                    <a:lnTo>
                      <a:pt x="16712" y="4707"/>
                    </a:lnTo>
                    <a:lnTo>
                      <a:pt x="18487" y="4707"/>
                    </a:lnTo>
                    <a:lnTo>
                      <a:pt x="18487" y="8224"/>
                    </a:lnTo>
                    <a:close/>
                  </a:path>
                  <a:path fill="darkenLess" w="28271" h="21600">
                    <a:moveTo>
                      <a:pt x="13213" y="14299"/>
                    </a:moveTo>
                    <a:lnTo>
                      <a:pt x="15058" y="14299"/>
                    </a:lnTo>
                    <a:lnTo>
                      <a:pt x="15058" y="17989"/>
                    </a:lnTo>
                    <a:lnTo>
                      <a:pt x="19445" y="17989"/>
                    </a:lnTo>
                    <a:lnTo>
                      <a:pt x="19445" y="10800"/>
                    </a:lnTo>
                    <a:lnTo>
                      <a:pt x="8826" y="10800"/>
                    </a:lnTo>
                    <a:lnTo>
                      <a:pt x="8826" y="17989"/>
                    </a:lnTo>
                    <a:lnTo>
                      <a:pt x="13213" y="17989"/>
                    </a:lnTo>
                    <a:close/>
                  </a:path>
                </a:pathLst>
              </a:custGeom>
              <a:solidFill>
                <a:srgbClr val="00e4a8"/>
              </a:solidFill>
              <a:ln cap="sq" w="158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8"/>
              <p:cNvSpPr/>
              <p:nvPr/>
            </p:nvSpPr>
            <p:spPr>
              <a:xfrm flipV="1">
                <a:off x="3841200" y="5456160"/>
                <a:ext cx="1383480" cy="64584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9"/>
              <p:cNvSpPr/>
              <p:nvPr/>
            </p:nvSpPr>
            <p:spPr>
              <a:xfrm flipV="1">
                <a:off x="4456080" y="5807880"/>
                <a:ext cx="1152720" cy="29340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0"/>
              <p:cNvSpPr/>
              <p:nvPr/>
            </p:nvSpPr>
            <p:spPr>
              <a:xfrm flipV="1">
                <a:off x="5071320" y="6277680"/>
                <a:ext cx="998640" cy="58680"/>
              </a:xfrm>
              <a:prstGeom prst="line">
                <a:avLst/>
              </a:prstGeom>
              <a:ln w="38160">
                <a:solidFill>
                  <a:srgbClr val="ffcf01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 Box 11"/>
            <p:cNvSpPr/>
            <p:nvPr/>
          </p:nvSpPr>
          <p:spPr>
            <a:xfrm>
              <a:off x="5455440" y="5221440"/>
              <a:ext cx="35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 to beginning slide (hom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5839560" y="5690880"/>
              <a:ext cx="269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 to previous sl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6224400" y="6161040"/>
              <a:ext cx="245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 to next sl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29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Basic Parts of Presentations: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Transitions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04920" y="1752480"/>
            <a:ext cx="830556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i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visual effect of a slide as it moves on and off the screen during a slide sh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slide can only have on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eatures which can b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d by the user includ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43000" y="5105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71800" y="5105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Tools%20(Transitions)"/>
          <p:cNvPicPr/>
          <p:nvPr/>
        </p:nvPicPr>
        <p:blipFill>
          <a:blip r:embed="rId1"/>
          <a:stretch/>
        </p:blipFill>
        <p:spPr>
          <a:xfrm>
            <a:off x="6781680" y="4191120"/>
            <a:ext cx="1949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Basic Parts of Presentations:</a:t>
            </a:r>
            <a:br>
              <a:rPr sz="3800"/>
            </a:br>
            <a:r>
              <a:rPr b="1" lang="en-US" sz="3800" spc="-1" strike="noStrike">
                <a:solidFill>
                  <a:srgbClr val="333399"/>
                </a:solidFill>
                <a:latin typeface="Arial"/>
              </a:rPr>
              <a:t>Build Effects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pplied to text to make it appear on a slide in increments of one letter, word, or section at a time in order to keep viewers’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s the audience from reading a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 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used with audio clips, video clips, graphics, and other parts of the present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21:31:38Z</dcterms:created>
  <dc:creator>Preferred Customer</dc:creator>
  <dc:description/>
  <dc:language>en-US</dc:language>
  <cp:lastModifiedBy>ycsadmin</cp:lastModifiedBy>
  <dcterms:modified xsi:type="dcterms:W3CDTF">2011-07-01T15:43:00Z</dcterms:modified>
  <cp:revision>175</cp:revision>
  <dc:subject/>
  <dc:title>Introduction to Multimedia</dc:title>
</cp:coreProperties>
</file>